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3DBB-E386-4B91-95D9-A7491E928DAE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ED26-FB8B-49CA-A8D0-C68D70BCE033}" type="slidenum">
              <a:rPr b="0" lang="cy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FF6-F710-41AA-9A4B-44F846F4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F8D-9A23-47CB-AE6C-2053ED3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54C-F487-433B-9582-34BFDD97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BAD-28B7-40E3-B8B8-47EFEEAF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84B4-F216-41D2-9B37-496395FC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9E03-A212-44D4-9494-4BD37956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4F66-5430-4D96-A23A-AF8DD85E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B15C-80AB-4D82-A8AE-06A97A43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B2FA-6F3A-440D-B00F-34DD5BB9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536C-7CAF-4AE8-918B-4DF1F64B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E20D-3D17-481D-B590-54E868E1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1A9-BFF4-4407-9E00-4C3E9666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A655-285E-44A1-9A84-A7331142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E051-4559-48F5-BCA0-085D2693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BFA8-F246-4978-8B94-DA6355CF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880F-1F18-4232-927E-F6B764F9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5C01-1022-4FC6-AA2F-3BE40A5D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2C0AE-0051-405D-B39F-6A64E88F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6D5E-CEAC-4416-958E-8F6A7C9D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D2B37-520C-4E4C-AB56-9FE62684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6D032-BA20-47E9-88FC-E4D3225D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9216-84E9-459A-8499-F64C5478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970-681C-4D9F-A3CB-FA7E4919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7896-EC14-408A-9328-DEB355DB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4836A-123C-42DA-AA1B-2CD8FCB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0E11-4ABC-4A01-AD32-DA91CAA8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18843-DFBB-4953-ADD5-5A4D80AE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64E11-1D9F-44AD-8DD0-6FE4F05A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034E-DF07-4296-BFFC-04CF5528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316C-B332-43B0-9726-56F96B5A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EBE11-45A9-456E-BCFE-F162216A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B1550-0750-4788-AD09-57F41C68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3D16-A212-455F-A403-7FB88872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942-37AD-4C6E-AA6B-D143A463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5C0EB-0EB9-4AF4-B2EE-56F11A1A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F8325-02FD-4CC6-8CDB-F18C4812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C3743-DEEC-4163-9D3B-5817295D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576B-A19F-4C13-84B3-5AC0977B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7656E-F754-4D3C-A0A1-6AB11185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1F53F-74BD-4465-B314-B892F9E8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4A617-473F-41D9-A114-6FA06C56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6FFBD-C580-48AC-A16E-CDC9EC33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FF8E-4E97-4DE9-B540-BC3690D1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8D1C9-CA58-495B-BC2B-63D6D439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474-EA5F-47A0-B5AE-D8691DA7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09798-BD7A-46CA-B13C-768A5536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34D7F-321C-4944-BF24-1C21D75A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4EB4A-F41A-4CEA-8A51-75384E5D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59739-7365-4CAA-B094-4AA798BA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89E12-F361-4E3A-97B4-D5AD0E6B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CD304-F8FB-4AE9-A654-18EC3F46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A82C4-7090-47F4-828D-D91ADB70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1F2FF-F819-4D0B-A3AB-FDE12CA0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89148-16EC-449A-A98A-B276B986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48B49-7EF9-4FEA-9ECD-6862F187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8D6-6FDD-457A-A10F-87507F57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ABB79-46D8-47EB-B6E5-DAFF3156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26DDB-9068-4EFC-805F-7FE20D60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D50DD-BDCE-4654-BD29-103D6957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E023F-C2E1-4348-9338-B134288E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A088F-F616-4F73-87CF-FFB88E18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12857-F819-490B-9AFE-3D2669DD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24493-7F90-45CF-9DB0-AB994340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A3412-7B01-4234-B700-022F36B1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B607B-11BE-4FE8-8CCB-BBE5C269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249BD-F5E2-4B35-8D23-84497FB6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B32-B6AD-4FC0-875C-557A5983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BA2D4-DAB6-4F75-9B3B-6E32113F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DF329-5710-4538-A802-6CE851EE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74255-086A-43BD-BB9C-D85E7DD9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DC173-D204-450B-B67D-BD49501B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A530E-1370-4F6F-BEA7-714CB609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AA523-BBD3-4CB2-B6A1-BE7F9A1E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97306-9D76-41C5-B0A1-FEE423BC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D86A2-1DFD-405D-80B9-1C23C475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FFE1A-D7FB-402A-8E79-5A752E07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DC93F-B138-4AC3-9622-D3B98C75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404-6C3D-49D2-A153-C68B11AC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9BE94-6E90-4508-88EE-87D69565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E209D-E0A1-42E4-85AB-C45A9C39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FFE4B-10BB-4F7F-918F-BC9A3661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A5E3E-43D0-4875-8BF9-21B2181C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57CC4-C68F-4A73-8FFF-AF87ABD4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ED1-75D9-4587-AD80-27EE472D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5FB0-1C84-4C35-9D6B-D78F17422D26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6A6D-2A54-4B32-A130-0EDECF7F2CEF}" type="slidenum">
              <a:rPr b="0" lang="en-GB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389C-3DEA-4BE7-ABC8-36FBE875CA7F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438C-CDAF-459A-80EB-9C30F0D3D5FF}" type="slidenum">
              <a:rPr b="0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318B-9CDA-4CBF-BBFE-50185FB4120E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DBEB-6307-4A98-889D-12A64B18D23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B650-4EBC-4150-8EEB-1E316D474869}" type="slidenum"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42880" y="658800"/>
            <a:ext cx="8472600" cy="1882800"/>
          </a:xfrm>
          <a:prstGeom prst="rect">
            <a:avLst/>
          </a:prstGeom>
          <a:ln w="0">
            <a:noFill/>
          </a:ln>
        </p:spPr>
      </p:pic>
      <p:pic>
        <p:nvPicPr>
          <p:cNvPr id="309" name="Subtitle 2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163000" cy="1835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http://www.stephensizer.com/wp-content/uploads/2013/10/23-dragonsden.jpg"/>
          <p:cNvPicPr/>
          <p:nvPr/>
        </p:nvPicPr>
        <p:blipFill>
          <a:blip r:embed="rId3"/>
          <a:stretch/>
        </p:blipFill>
        <p:spPr>
          <a:xfrm>
            <a:off x="0" y="3235320"/>
            <a:ext cx="9144000" cy="3622680"/>
          </a:xfrm>
          <a:prstGeom prst="rect">
            <a:avLst/>
          </a:prstGeom>
          <a:ln w="0">
            <a:noFill/>
          </a:ln>
        </p:spPr>
      </p:pic>
      <p:sp>
        <p:nvSpPr>
          <p:cNvPr id="311" name="Footer Placeholder 3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entury Gothic"/>
              </a:rPr>
              <a:t>A 1.1.1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Plan!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Decide who is going to be the lead person or whether you’re going to present as a team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Making a good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pitc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is an essential form of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marketing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for a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small business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because it gets your ideas across to potential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customers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investors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Use a multi media approach: power point, display or poster, prototype , photographic images/vide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1060200" cy="66088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Create a positive visual effec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6" name="Picture 2" descr="http://i.telegraph.co.uk/multimedia/archive/02073/Team-Atomic-Pitch_2073634b.jpg"/>
          <p:cNvPicPr/>
          <p:nvPr/>
        </p:nvPicPr>
        <p:blipFill>
          <a:blip r:embed="rId2"/>
          <a:srcRect l="12377" t="0" r="12377" b="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when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presenting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, never  read directly off the slides 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never put too much information onto the slid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make it no more than 7 slides, no longer than 10 minutes and size 30 font. You should start preparing the 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pitc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weeks in advance and never at the last minut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void complex transitions and animations. Keep it simple 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Use a story to get your points across and to show the audience what your product can 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more you can allow the listener to picture using the product the more likely they will be to take actio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Be passionate about your product and that you know enough about it to be able to answer any questions people may ask you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Be professional in manner and appearanc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newsimg.bbc.co.uk/media/images/42647000/jpg/_42647787_levi_roots_203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5383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324000" y="5732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Levi Roots made a successful pitch earning a £50,000 investment from the Dragons</a:t>
            </a:r>
            <a:r>
              <a:rPr b="0" lang="en-GB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hearse your pitch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Practice all transitions and timing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Be clear and audib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Vary the tone of your voic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Use eye contact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Structure your pitch with a dynamic opening and memorable closure which highlights the USP of your product or servic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21:15:16Z</dcterms:created>
  <dc:creator>Eirian Evans</dc:creator>
  <dc:description/>
  <dc:language>en-US</dc:language>
  <cp:lastModifiedBy> </cp:lastModifiedBy>
  <dcterms:modified xsi:type="dcterms:W3CDTF">2015-08-31T10:12:38Z</dcterms:modified>
  <cp:revision>6</cp:revision>
  <dc:subject/>
  <dc:title>Enterprise and Employability.</dc:title>
</cp:coreProperties>
</file>